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23F0-B50C-4B2B-8B17-E209CF9EDC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2A6-16D6-4B02-8F94-EE666E666D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454-FBDA-4FCA-804B-6435F829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A71-138D-4185-BF31-009BDDE2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551-5C7B-45F3-92CC-FC96BFD9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866-DE94-49F4-A78B-143E9CC3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54A7-2DCD-4F51-9752-1E8A1CA3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B21E-17AC-4F27-9F9D-814640CA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7B4B-CB4D-4E21-A51E-D1CBF081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EA8-2F2C-4921-A3CF-901F728A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783F-C671-4001-87DC-0F3BD668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7C8C-9118-45AD-8002-4EEAA109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FA68-9A70-4E3E-A8EB-B5703ECB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E71-7481-4129-B24B-34BCD34C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494A-7B93-4ECB-B478-8843B02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02FF-C89D-4DA6-941E-F9332C16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F616-A9AA-4D9A-A026-2D86D5FF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959F-A13A-4FCE-87EB-1532E5EE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DD0F-2D27-4B3A-A12D-31B6478F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FC5F-7EE9-4A9E-B645-6E0C27B5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C6A3-5A72-4CD1-9E63-1EAF5A3D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29A6-FA26-43BA-B652-2E16575D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5C6B-60F4-4DD8-A895-5E400B9B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478E-272F-4518-BBAA-6879019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4A9-E164-456B-B445-9D3B5654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4665-E36C-4458-9392-6FC60C6A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52E0-F0B1-4067-BDBF-AA6B4A12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02DA-D76A-4DB1-8A42-361E5F92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CEF5-0F2E-47E0-A2A6-49D70C9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78F1-C431-447A-AA21-FEBC5387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B788-C61B-4CE2-81CA-060DAA33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8863-2544-40E3-9E98-6EBC7DB1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5513-9E6A-49B4-8B94-5E500107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F3AD-9D0D-4837-931B-F5B43BCB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266F-8A4E-4DD9-9541-A0479902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AE8-73D8-423E-AD3F-AD907DB5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ADF3-EE55-4DFA-AD75-224E69BC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5918-52F4-453C-91DB-17FBE18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4CEB-3C94-41C9-82DB-01DCBDB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6353-88AF-4ED8-97D9-6E3058F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1937-F30E-4219-A583-73ACD309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6E0D-40EC-4EE2-848E-697F6E6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8750-232A-4A11-B4ED-897386BC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C649-8ACB-40AC-A7BE-BEE6FCEB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E969-3649-43BD-B8C6-21D27D09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3C260-3507-44CC-8DAB-281AD957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061-151B-462A-9071-455860F1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0A340-D136-4E11-975C-7562AE2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6BDAD-5015-4761-A409-1612A230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1F82-44C8-493F-B993-DBCE92C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8E98-A5F8-41C4-8DD2-89D0FC65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7996C-36A4-4790-BA4A-FEB5240E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5CCA-3B59-4398-8EA9-8CCF487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286B7-3E65-4DCB-B7B1-E50924E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9BBC-CCDC-4A1A-9079-306FED2E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CBAF-9588-4E52-B91D-EA98703E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50B79-B7C8-419B-BF2C-21E6C73A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3C1-144B-4D00-8AE6-0F6C3448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55F89-E926-46A8-B903-2131C76B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924-601C-419E-AA31-6D29843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06C-D5D5-4A5E-BF87-6695AC1D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E47-BA63-4418-B808-F97212E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F2D5-32C7-48C1-B549-65850A80D73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753F-5AB3-4F6A-BB9F-DCA3587533A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A84C-D923-45B6-B29C-A9E4ABD7C2F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C1AD-3395-4703-A94B-29458A353ED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B8EF-7771-4FF0-A2F3-F482257040F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53880" y="274680"/>
            <a:ext cx="7863120" cy="1305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28400" y="1500120"/>
            <a:ext cx="785484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авилина В.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Г. Сыктывкар, 2010 г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КГПИ, 141 групп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3" descr="Dodecahedron and Pentagonal Star.jpg"/>
          <p:cNvPicPr/>
          <p:nvPr/>
        </p:nvPicPr>
        <p:blipFill>
          <a:blip r:embed="rId2"/>
          <a:srcRect l="17968" t="6156" r="17968" b="6151"/>
          <a:stretch/>
        </p:blipFill>
        <p:spPr>
          <a:xfrm>
            <a:off x="285840" y="2286000"/>
            <a:ext cx="585792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2" descr="img6.JPG"/>
          <p:cNvPicPr/>
          <p:nvPr/>
        </p:nvPicPr>
        <p:blipFill>
          <a:blip r:embed="rId1"/>
          <a:stretch/>
        </p:blipFill>
        <p:spPr>
          <a:xfrm>
            <a:off x="428760" y="642960"/>
            <a:ext cx="7286400" cy="592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2760" y="811080"/>
            <a:ext cx="7742160" cy="1694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300px-BisectingSegment.png"/>
          <p:cNvPicPr/>
          <p:nvPr/>
        </p:nvPicPr>
        <p:blipFill>
          <a:blip r:embed="rId2"/>
          <a:stretch/>
        </p:blipFill>
        <p:spPr>
          <a:xfrm>
            <a:off x="1928880" y="3286080"/>
            <a:ext cx="4357800" cy="27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" descr="678px-Perpendicular-construction.svg.png"/>
          <p:cNvPicPr/>
          <p:nvPr/>
        </p:nvPicPr>
        <p:blipFill>
          <a:blip r:embed="rId2"/>
          <a:srcRect l="7966" t="14224" r="7966" b="6270"/>
          <a:stretch/>
        </p:blipFill>
        <p:spPr>
          <a:xfrm>
            <a:off x="1643040" y="1785960"/>
            <a:ext cx="542916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73818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33200" y="244440"/>
            <a:ext cx="8791560" cy="648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53160" cy="5261040"/>
          </a:xfrm>
          <a:prstGeom prst="rect">
            <a:avLst/>
          </a:prstGeom>
          <a:ln w="0">
            <a:noFill/>
          </a:ln>
        </p:spPr>
      </p:pic>
      <p:cxnSp>
        <p:nvCxnSpPr>
          <p:cNvPr id="232" name="Прямая со стрелкой 3"/>
          <p:cNvCxnSpPr/>
          <p:nvPr/>
        </p:nvCxnSpPr>
        <p:spPr>
          <a:xfrm flipH="1">
            <a:off x="1428480" y="2714760"/>
            <a:ext cx="357840" cy="1643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33" name="Прямая со стрелкой 5"/>
          <p:cNvCxnSpPr/>
          <p:nvPr/>
        </p:nvCxnSpPr>
        <p:spPr>
          <a:xfrm flipH="1">
            <a:off x="4214520" y="2714760"/>
            <a:ext cx="2160" cy="1715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34" name="Прямая со стрелкой 7"/>
          <p:cNvCxnSpPr/>
          <p:nvPr/>
        </p:nvCxnSpPr>
        <p:spPr>
          <a:xfrm>
            <a:off x="6144120" y="2714760"/>
            <a:ext cx="284400" cy="1643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330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82520" y="317520"/>
            <a:ext cx="87901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65240" y="139680"/>
            <a:ext cx="8577000" cy="729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804960" y="115920"/>
            <a:ext cx="6870600" cy="77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mso551B0"/>
          <p:cNvPicPr/>
          <p:nvPr/>
        </p:nvPicPr>
        <p:blipFill>
          <a:blip r:embed="rId2">
            <a:lum contrast="30000"/>
          </a:blip>
          <a:srcRect l="30269" t="22158" r="41455" b="66543"/>
          <a:stretch/>
        </p:blipFill>
        <p:spPr>
          <a:xfrm rot="20200800">
            <a:off x="755640" y="1484280"/>
            <a:ext cx="3143160" cy="182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mso551B0"/>
          <p:cNvPicPr/>
          <p:nvPr/>
        </p:nvPicPr>
        <p:blipFill>
          <a:blip r:embed="rId3">
            <a:lum contrast="30000"/>
          </a:blip>
          <a:srcRect l="59908" t="21205" r="10105" b="67223"/>
          <a:stretch/>
        </p:blipFill>
        <p:spPr>
          <a:xfrm rot="881400">
            <a:off x="5403600" y="1413000"/>
            <a:ext cx="3529080" cy="212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mso39F62"/>
          <p:cNvPicPr/>
          <p:nvPr/>
        </p:nvPicPr>
        <p:blipFill>
          <a:blip r:embed="rId4">
            <a:lum contrast="18000"/>
          </a:blip>
          <a:srcRect l="27219" t="2751" r="26482" b="62348"/>
          <a:stretch/>
        </p:blipFill>
        <p:spPr>
          <a:xfrm>
            <a:off x="4929120" y="3714840"/>
            <a:ext cx="2743200" cy="2857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so39F62"/>
          <p:cNvPicPr/>
          <p:nvPr/>
        </p:nvPicPr>
        <p:blipFill>
          <a:blip r:embed="rId5">
            <a:lum contrast="18000"/>
          </a:blip>
          <a:srcRect l="24299" t="43268" r="24605" b="32942"/>
          <a:stretch/>
        </p:blipFill>
        <p:spPr>
          <a:xfrm rot="20504400">
            <a:off x="971280" y="4220640"/>
            <a:ext cx="3029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93560" y="420840"/>
            <a:ext cx="7255080" cy="11588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Image3092.gif"/>
          <p:cNvPicPr/>
          <p:nvPr/>
        </p:nvPicPr>
        <p:blipFill>
          <a:blip r:embed="rId2"/>
          <a:stretch/>
        </p:blipFill>
        <p:spPr>
          <a:xfrm>
            <a:off x="1785960" y="2428920"/>
            <a:ext cx="4876920" cy="3657600"/>
          </a:xfrm>
          <a:prstGeom prst="rect">
            <a:avLst/>
          </a:prstGeom>
          <a:ln w="39960">
            <a:solidFill>
              <a:srgbClr val="000000"/>
            </a:solidFill>
            <a:miter/>
          </a:ln>
        </p:spPr>
      </p:pic>
      <p:sp>
        <p:nvSpPr>
          <p:cNvPr id="245" name="Прямоугольник 4"/>
          <p:cNvSpPr/>
          <p:nvPr/>
        </p:nvSpPr>
        <p:spPr>
          <a:xfrm>
            <a:off x="1000080" y="285840"/>
            <a:ext cx="6215040" cy="142884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величину угл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2" descr="img4.JPG"/>
          <p:cNvPicPr/>
          <p:nvPr/>
        </p:nvPicPr>
        <p:blipFill>
          <a:blip r:embed="rId1"/>
          <a:stretch/>
        </p:blipFill>
        <p:spPr>
          <a:xfrm>
            <a:off x="857160" y="714240"/>
            <a:ext cx="4762440" cy="12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428760" y="2786040"/>
          <a:ext cx="6095880" cy="25606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а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C =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B =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йти: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а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F =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EG В ТРИ РАЗА БОЛЬШЕ УГЛАGE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йти:  H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а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 =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ML =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йти: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48" name="Рисунок 5" descr="Image3095.gif"/>
          <p:cNvPicPr/>
          <p:nvPr/>
        </p:nvPicPr>
        <p:blipFill>
          <a:blip r:embed="rId2"/>
          <a:stretch/>
        </p:blipFill>
        <p:spPr>
          <a:xfrm>
            <a:off x="357120" y="342900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7" descr="Image3095.gif"/>
          <p:cNvPicPr/>
          <p:nvPr/>
        </p:nvPicPr>
        <p:blipFill>
          <a:blip r:embed="rId3"/>
          <a:stretch/>
        </p:blipFill>
        <p:spPr>
          <a:xfrm>
            <a:off x="357120" y="400068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8" descr="Image3095.gif"/>
          <p:cNvPicPr/>
          <p:nvPr/>
        </p:nvPicPr>
        <p:blipFill>
          <a:blip r:embed="rId4"/>
          <a:stretch/>
        </p:blipFill>
        <p:spPr>
          <a:xfrm>
            <a:off x="1214280" y="457200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9" descr="Image3095.gif"/>
          <p:cNvPicPr/>
          <p:nvPr/>
        </p:nvPicPr>
        <p:blipFill>
          <a:blip r:embed="rId5"/>
          <a:stretch/>
        </p:blipFill>
        <p:spPr>
          <a:xfrm>
            <a:off x="2357280" y="342900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0" descr="Image3095.gif"/>
          <p:cNvPicPr/>
          <p:nvPr/>
        </p:nvPicPr>
        <p:blipFill>
          <a:blip r:embed="rId6"/>
          <a:stretch/>
        </p:blipFill>
        <p:spPr>
          <a:xfrm>
            <a:off x="2357280" y="400068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1" descr="Image3095.gif"/>
          <p:cNvPicPr/>
          <p:nvPr/>
        </p:nvPicPr>
        <p:blipFill>
          <a:blip r:embed="rId7"/>
          <a:stretch/>
        </p:blipFill>
        <p:spPr>
          <a:xfrm>
            <a:off x="3286080" y="507204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2" descr="Image3095.gif"/>
          <p:cNvPicPr/>
          <p:nvPr/>
        </p:nvPicPr>
        <p:blipFill>
          <a:blip r:embed="rId8"/>
          <a:stretch/>
        </p:blipFill>
        <p:spPr>
          <a:xfrm>
            <a:off x="4429080" y="3429000"/>
            <a:ext cx="162000" cy="142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3" descr="Image3095.gif"/>
          <p:cNvPicPr/>
          <p:nvPr/>
        </p:nvPicPr>
        <p:blipFill>
          <a:blip r:embed="rId9"/>
          <a:stretch/>
        </p:blipFill>
        <p:spPr>
          <a:xfrm>
            <a:off x="4429080" y="400068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4" descr="Image3095.gif"/>
          <p:cNvPicPr/>
          <p:nvPr/>
        </p:nvPicPr>
        <p:blipFill>
          <a:blip r:embed="rId10"/>
          <a:stretch/>
        </p:blipFill>
        <p:spPr>
          <a:xfrm>
            <a:off x="5286240" y="4572000"/>
            <a:ext cx="162000" cy="14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7:30:31Z</dcterms:created>
  <dc:creator>Пользователь</dc:creator>
  <dc:description/>
  <dc:language>en-US</dc:language>
  <cp:lastModifiedBy>Пользователь</cp:lastModifiedBy>
  <dcterms:modified xsi:type="dcterms:W3CDTF">2010-05-26T04:43:45Z</dcterms:modified>
  <cp:revision>25</cp:revision>
  <dc:subject/>
  <dc:title>Слайд 1</dc:title>
</cp:coreProperties>
</file>